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9.png" ContentType="image/png"/>
  <Override PartName="/ppt/media/image12.png" ContentType="image/png"/>
  <Override PartName="/ppt/media/image17.jpeg" ContentType="image/jpeg"/>
  <Override PartName="/ppt/media/image16.png" ContentType="image/pn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7.png" ContentType="image/png"/>
  <Override PartName="/ppt/media/image1.jpeg" ContentType="image/jpeg"/>
  <Override PartName="/ppt/media/image10.png" ContentType="image/png"/>
  <Override PartName="/ppt/media/image6.jpeg" ContentType="image/jpeg"/>
  <Override PartName="/ppt/media/image13.png" ContentType="image/png"/>
  <Override PartName="/ppt/media/image8.png" ContentType="image/png"/>
  <Override PartName="/ppt/media/image1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8F4FB-5E27-481B-B1DD-E4115C4CB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DD476-353B-4726-B399-29AE12575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AAAA8-9BCD-40AC-8B19-538516761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5D064-0B2D-47F7-930E-BFCFDA640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E59C2-6DD0-40E0-B8D8-AE4ADDC94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E28F7-3F60-4EFF-9A9B-8B7DE5015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08B51-64B8-4827-9303-37FE9D74A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A3EC9-5708-4310-B761-344CC80D1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8F171-FBB9-4999-B607-D4E7B3CD1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121C4-A941-49EB-913D-9858E20D5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99FE2-5025-470A-8C5A-24F749ED9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F4BAB-03CB-4086-981E-2F2438D23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63B93-213B-4A38-B09D-D6E1621F1CC4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28280"/>
            <a:ext cx="7772400" cy="273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роение индивидуальных образовательных маршрутов при подготовке обучающихся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ГИА по хими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652640"/>
            <a:ext cx="640080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оя Михайловна Сырчикова 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БОУ «Чёрмозская СОШ им. В. Ершова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04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работка тематических заданий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Объект 3" descr=""/>
          <p:cNvPicPr/>
          <p:nvPr/>
        </p:nvPicPr>
        <p:blipFill>
          <a:blip r:embed="rId1"/>
          <a:stretch/>
        </p:blipFill>
        <p:spPr>
          <a:xfrm>
            <a:off x="4575240" y="1197000"/>
            <a:ext cx="4114800" cy="55627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66" name="Рисунок 4" descr=""/>
          <p:cNvPicPr/>
          <p:nvPr/>
        </p:nvPicPr>
        <p:blipFill>
          <a:blip r:embed="rId2"/>
          <a:stretch/>
        </p:blipFill>
        <p:spPr>
          <a:xfrm>
            <a:off x="179280" y="1197000"/>
            <a:ext cx="4108680" cy="55627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2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ещение групповых дополнительных занятий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Рисунок 1" descr=""/>
          <p:cNvPicPr/>
          <p:nvPr/>
        </p:nvPicPr>
        <p:blipFill>
          <a:blip r:embed="rId1"/>
          <a:stretch/>
        </p:blipFill>
        <p:spPr>
          <a:xfrm>
            <a:off x="4716360" y="1792440"/>
            <a:ext cx="4191120" cy="47257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69" name="Объект 5" descr=""/>
          <p:cNvPicPr/>
          <p:nvPr/>
        </p:nvPicPr>
        <p:blipFill>
          <a:blip r:embed="rId2"/>
          <a:stretch/>
        </p:blipFill>
        <p:spPr>
          <a:xfrm>
            <a:off x="179280" y="1792440"/>
            <a:ext cx="4211640" cy="47257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Объект 5" descr=""/>
          <p:cNvPicPr/>
          <p:nvPr/>
        </p:nvPicPr>
        <p:blipFill>
          <a:blip r:embed="rId1"/>
          <a:stretch/>
        </p:blipFill>
        <p:spPr>
          <a:xfrm>
            <a:off x="5003640" y="1052640"/>
            <a:ext cx="3565800" cy="5646600"/>
          </a:xfrm>
          <a:prstGeom prst="rect">
            <a:avLst/>
          </a:prstGeom>
          <a:ln w="0">
            <a:noFill/>
          </a:ln>
        </p:spPr>
      </p:pic>
      <p:pic>
        <p:nvPicPr>
          <p:cNvPr id="71" name="Рисунок 6" descr=""/>
          <p:cNvPicPr/>
          <p:nvPr/>
        </p:nvPicPr>
        <p:blipFill>
          <a:blip r:embed="rId2"/>
          <a:stretch/>
        </p:blipFill>
        <p:spPr>
          <a:xfrm>
            <a:off x="468360" y="1052640"/>
            <a:ext cx="3620880" cy="5646600"/>
          </a:xfrm>
          <a:prstGeom prst="rect">
            <a:avLst/>
          </a:prstGeom>
          <a:ln w="0">
            <a:noFill/>
          </a:ln>
        </p:spPr>
      </p:pic>
      <p:sp>
        <p:nvSpPr>
          <p:cNvPr id="72" name="TextBox 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ещение индивидуальных дополнительных занят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олнение индивидуальных домашних рабо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Объект 10" descr=""/>
          <p:cNvPicPr/>
          <p:nvPr/>
        </p:nvPicPr>
        <p:blipFill>
          <a:blip r:embed="rId1"/>
          <a:stretch/>
        </p:blipFill>
        <p:spPr>
          <a:xfrm>
            <a:off x="4575240" y="1409760"/>
            <a:ext cx="4111560" cy="54482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75" name="Рисунок 12" descr=""/>
          <p:cNvPicPr/>
          <p:nvPr/>
        </p:nvPicPr>
        <p:blipFill>
          <a:blip r:embed="rId2"/>
          <a:stretch/>
        </p:blipFill>
        <p:spPr>
          <a:xfrm>
            <a:off x="457200" y="1417680"/>
            <a:ext cx="3765600" cy="54403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8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анк вопросов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3" descr="E:\Сканы для презентации\img131.jpg"/>
          <p:cNvPicPr/>
          <p:nvPr/>
        </p:nvPicPr>
        <p:blipFill>
          <a:blip r:embed="rId1"/>
          <a:stretch/>
        </p:blipFill>
        <p:spPr>
          <a:xfrm>
            <a:off x="4694400" y="1089000"/>
            <a:ext cx="4087800" cy="57326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78" name="Рисунок 1" descr=""/>
          <p:cNvPicPr/>
          <p:nvPr/>
        </p:nvPicPr>
        <p:blipFill>
          <a:blip r:embed="rId2"/>
          <a:stretch/>
        </p:blipFill>
        <p:spPr>
          <a:xfrm>
            <a:off x="220680" y="1071720"/>
            <a:ext cx="4233960" cy="57607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79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82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8" descr="ÐÐ°ÑÑÐ¸Ð½ÐºÐ¸ Ð¿Ð¾ Ð·Ð°Ð¿ÑÐ¾ÑÑ ÐºÐ°ÑÑÐ¸Ð½ÐºÐ° Ð²ÑÐµ Ð² Ð²Ð°ÑÐ¸Ñ ÑÑÐºÐ°Ñ"/>
          <p:cNvPicPr/>
          <p:nvPr/>
        </p:nvPicPr>
        <p:blipFill>
          <a:blip r:embed="rId2"/>
          <a:stretch/>
        </p:blipFill>
        <p:spPr>
          <a:xfrm>
            <a:off x="611280" y="189000"/>
            <a:ext cx="7921440" cy="647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асибо за внима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оя Михайловна Сырчикова 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МБОУ «Чёрмозская СОШ им. В. Ершова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3"/>
          <p:cNvSpPr/>
          <p:nvPr/>
        </p:nvSpPr>
        <p:spPr>
          <a:xfrm>
            <a:off x="900000" y="907920"/>
            <a:ext cx="7274160" cy="47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и образование ни одному человеку не могут быть даны или сообщены. Всякий, кто желает к ним приобщиться, должен достигнуть этого собственной деятельностью, собственными силами, собственным напряжением“ 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дольф Дистерве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апы реализации программ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324000" y="1125360"/>
            <a:ext cx="849600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точнение списка желающих сдавать экзамен по химии и их анкетирование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ормирование обучающихся и их родителей о порядке проведения ГИА в 9 и 11 классе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комство с демоверсией, кодификатором и спецификацией ГИА по химии – 2019 года;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ние банка заданий, тренажёров, опорных схем и т.д. по темам;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дение трёх тренировочных экзаменов, информирование родителей о их результатах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ение общих и частных проблем курса и составление индивидуальных образовательных траекторий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а над вопросами, вызвавшими затруднения у большинства обучающихся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ение 10-12 заданий для получения необходимого минимума баллов для учеников группы «риска»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а над заданиями высокого уровня сложности для учеников группы «сильные»;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лизация курса по выбору «Окислительно-восстановительные реакции»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олнение и анализ тестов из сборника для подготовки и с сайтов «Решу ОГЭ, ЕГЭ», ФИПИ и др.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324000" y="1699920"/>
            <a:ext cx="8496000" cy="50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делились 3 группы обучающихся: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группа 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сильные» - претенденты на получение высоких баллов – 2 человека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группа - 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учающиеся, которые при добросовестной подготовке могут набрать среднее количество баллов – 5 человек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группа 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риска» - могут не набрать минимальное количество баллов – 2 человека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чины выбора химии в качестве ГИА: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считаю, что химию сдам лучше, чем другие возможные экзамены в формате ГИА - 4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планирую изучать химию на профильном уровне в старшей школе (10-11 классы) -3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не интересен предмет химия – 2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лиз результатов анкетирования обучающихся 9 класс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ноз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764640"/>
            <a:ext cx="822960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ноз на настоящий момент: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дам со средним количеством баллов – 5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дам с минимальным (или чуть больше) количеством баллов – 4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ноз на будущее: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дам с высоким количеством баллов - 3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дам со средним количеством баллов – 6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3"/>
          <p:cNvSpPr/>
          <p:nvPr/>
        </p:nvSpPr>
        <p:spPr>
          <a:xfrm>
            <a:off x="611280" y="4149720"/>
            <a:ext cx="7921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труднени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вызывают задания связанные со знанием химических свойств веществ, решением задач и ОВ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этом все собираются заниматься самостоятельно и на дополнительных консультациях в школ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71280"/>
          </a:xfrm>
          <a:prstGeom prst="rect">
            <a:avLst/>
          </a:prstGeom>
          <a:noFill/>
          <a:ln w="0">
            <a:noFill/>
          </a:ln>
        </p:spPr>
        <p:txBody>
          <a:bodyPr tIns="25560" bIns="255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нажёр по классам неорганических соединени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457200" y="692280"/>
          <a:ext cx="8229600" cy="4752720"/>
        </p:xfrm>
        <a:graphic>
          <a:graphicData uri="http://schemas.openxmlformats.org/drawingml/2006/table">
            <a:tbl>
              <a:tblPr/>
              <a:tblGrid>
                <a:gridCol w="1028880"/>
                <a:gridCol w="1028520"/>
                <a:gridCol w="1409760"/>
                <a:gridCol w="1295280"/>
                <a:gridCol w="1224000"/>
                <a:gridCol w="1214640"/>
                <a:gridCol w="1028520"/>
              </a:tblGrid>
              <a:tr h="3952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gridSpan="6"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ариант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67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952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uCl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O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l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aB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970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aSO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O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nCl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g(OH)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n(NO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g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952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B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(OH)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gCl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NO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967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n(OH)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C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aO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a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952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eCl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Cl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nSO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967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u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a(OH)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O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g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952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g(OH)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iO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gSO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aNO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O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C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970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e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NO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l(OH)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B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iO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(OH)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952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O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u(OH)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b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O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e(OH)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967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gC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i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g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u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O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r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H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r>
                        <a:rPr b="0" lang="ru-RU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53" name="TextBox 4"/>
          <p:cNvSpPr/>
          <p:nvPr/>
        </p:nvSpPr>
        <p:spPr>
          <a:xfrm>
            <a:off x="539640" y="5589720"/>
            <a:ext cx="8209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ры заданий:</a:t>
            </a:r>
            <a:br>
              <a:rPr sz="16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Распределить  вещества по классам, назвать;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Какие вещества варианта могут попарно взаимодействовать, написать уравнения    реакций;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Какие вещества варианта будут взаимодействовать с соляной кислотой, гидроксидом натрия и т. д., написать уравнения возможных реакци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нажёр по химическим реакция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684360" y="765000"/>
          <a:ext cx="7920000" cy="4608720"/>
        </p:xfrm>
        <a:graphic>
          <a:graphicData uri="http://schemas.openxmlformats.org/drawingml/2006/table">
            <a:tbl>
              <a:tblPr/>
              <a:tblGrid>
                <a:gridCol w="1584000"/>
                <a:gridCol w="1584360"/>
                <a:gridCol w="1582920"/>
                <a:gridCol w="1584360"/>
                <a:gridCol w="1584360"/>
              </a:tblGrid>
              <a:tr h="649440">
                <a:tc rowSpan="2"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gridSpan="4"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Вариан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9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I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II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I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3956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Zn + HCl =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NaOH + H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PO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=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Cu + Hg(NO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)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=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Cu + O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=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3992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Na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O + H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=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Cu + HCl =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Fe(OH)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=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CaO + H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O =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3956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P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O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+ H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O =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Fe + CuCl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=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CuO + H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=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K + H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O =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4136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Cu(OH)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=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ZnO + HCl =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Ca + H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O =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l(OH)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+ H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SO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=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3956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SiO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+ H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O =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(CuOH)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CO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=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HCl + Na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CO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=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Hg + HCl =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3992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Ca(OH)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+ HNO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=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Ca + O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=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ZnO + H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O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=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HgO =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3956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Cu + H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SO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(</a:t>
                      </a:r>
                      <a:r>
                        <a:rPr b="0" lang="ru-RU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онц)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=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g + HNO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=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Mg + H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SO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(</a:t>
                      </a:r>
                      <a:r>
                        <a:rPr b="0" lang="ru-RU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онц)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=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Zn + H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SO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=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3992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Fe + AgNO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=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BaCl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 + H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SO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=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lCl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+ AgNO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=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Fe + NiSO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=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56" name="Rectangle 1"/>
          <p:cNvSpPr/>
          <p:nvPr/>
        </p:nvSpPr>
        <p:spPr>
          <a:xfrm>
            <a:off x="755640" y="5458320"/>
            <a:ext cx="770400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Примеры заданий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1. Закончить уравнения возможных реакций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2. Определить тип реакций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3. Для реакций ионного обмена написать уравнения в ионном виде и т.д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дивидуальные образовательные маршрут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Объект 2" descr=""/>
          <p:cNvPicPr/>
          <p:nvPr/>
        </p:nvPicPr>
        <p:blipFill>
          <a:blip r:embed="rId1"/>
          <a:stretch/>
        </p:blipFill>
        <p:spPr>
          <a:xfrm>
            <a:off x="449280" y="1557360"/>
            <a:ext cx="3851280" cy="4525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59" name="Рисунок 3" descr=""/>
          <p:cNvPicPr/>
          <p:nvPr/>
        </p:nvPicPr>
        <p:blipFill>
          <a:blip r:embed="rId2"/>
          <a:stretch/>
        </p:blipFill>
        <p:spPr>
          <a:xfrm>
            <a:off x="4516560" y="1557360"/>
            <a:ext cx="4259160" cy="45370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60" name="Прямоугольник 1"/>
          <p:cNvSpPr/>
          <p:nvPr/>
        </p:nvSpPr>
        <p:spPr>
          <a:xfrm>
            <a:off x="2340000" y="5589720"/>
            <a:ext cx="4535640" cy="10080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зданы индивидуальные «зачетные книжки» для подготовки к экзамен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олнение диагностических работ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Рисунок 1" descr=""/>
          <p:cNvPicPr/>
          <p:nvPr/>
        </p:nvPicPr>
        <p:blipFill>
          <a:blip r:embed="rId1"/>
          <a:stretch/>
        </p:blipFill>
        <p:spPr>
          <a:xfrm>
            <a:off x="1116000" y="1143000"/>
            <a:ext cx="3095640" cy="54928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63" name="Объект 3" descr=""/>
          <p:cNvPicPr/>
          <p:nvPr/>
        </p:nvPicPr>
        <p:blipFill>
          <a:blip r:embed="rId2"/>
          <a:stretch/>
        </p:blipFill>
        <p:spPr>
          <a:xfrm>
            <a:off x="5076720" y="1150920"/>
            <a:ext cx="3125880" cy="54910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1-06T16:21:20Z</dcterms:created>
  <dc:creator>Зоя Михайловна</dc:creator>
  <dc:description/>
  <dc:language>en-US</dc:language>
  <cp:lastModifiedBy>Клинова Мария Николаевна</cp:lastModifiedBy>
  <dcterms:modified xsi:type="dcterms:W3CDTF">2018-11-13T07:58:25Z</dcterms:modified>
  <cp:revision>43</cp:revision>
  <dc:subject/>
  <dc:title>Слайд 1</dc:title>
</cp:coreProperties>
</file>